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DB5-2908-4890-817D-5B99FABB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F99-3F92-4236-875F-FEBEFF22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204-9997-40C3-9BEA-1E2707FB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EC9-80CA-43AB-9039-0C79556E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38A-97DA-4F30-B45C-BA585ADE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35A-F53D-4169-886F-E60C5465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9D1-4AE5-44D8-812F-71613C3F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55D-74FF-4657-AA6E-09DEF8E7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F64-AAC7-4790-A2F6-7ADDBCA8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54A-472F-49C6-93A3-0F691132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2D4-1063-4EA5-889F-74E851A3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4F3-87BD-4645-8184-684636D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6902-9375-4B30-82C3-163C77C20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66600"/>
            <a:ext cx="792504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50840"/>
            <a:ext cx="899172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0160" y="0"/>
            <a:ext cx="69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479520"/>
            <a:ext cx="792468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7640"/>
            <a:ext cx="89154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76240" y="0"/>
            <a:ext cx="55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73080"/>
            <a:ext cx="838224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6040"/>
            <a:ext cx="89154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9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6840" y="0"/>
            <a:ext cx="48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50920"/>
            <a:ext cx="891540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0560" y="0"/>
            <a:ext cx="576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2:42:01Z</dcterms:created>
  <dc:creator>Patrick J. Mooney</dc:creator>
  <dc:description/>
  <dc:language>en-US</dc:language>
  <cp:lastModifiedBy>Patrick J. Mooney</cp:lastModifiedBy>
  <dcterms:modified xsi:type="dcterms:W3CDTF">2012-03-27T03:21:38Z</dcterms:modified>
  <cp:revision>2</cp:revision>
  <dc:subject/>
  <dc:title>Slide 1</dc:title>
</cp:coreProperties>
</file>